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wmf" ContentType="image/x-wmf"/>
  <Override PartName="/ppt/media/image9.wmf" ContentType="image/x-wmf"/>
  <Override PartName="/ppt/media/image13.wmf" ContentType="image/x-wmf"/>
  <Override PartName="/ppt/media/image8.wmf" ContentType="image/x-wmf"/>
  <Override PartName="/ppt/media/image11.wmf" ContentType="image/x-wmf"/>
  <Override PartName="/ppt/media/image7.png" ContentType="image/png"/>
  <Override PartName="/ppt/media/image15.wmf" ContentType="image/x-wmf"/>
  <Override PartName="/ppt/media/image10.wmf" ContentType="image/x-wmf"/>
  <Override PartName="/ppt/media/image6.png" ContentType="image/png"/>
  <Override PartName="/ppt/media/image14.wmf" ContentType="image/x-wmf"/>
  <Override PartName="/ppt/media/image5.wmf" ContentType="image/x-wmf"/>
  <Override PartName="/ppt/media/image23.png" ContentType="image/png"/>
  <Override PartName="/ppt/media/image22.png" ContentType="image/png"/>
  <Override PartName="/ppt/media/image4.wmf" ContentType="image/x-wmf"/>
  <Override PartName="/ppt/media/image20.png" ContentType="image/png"/>
  <Override PartName="/ppt/media/image2.wmf" ContentType="image/x-wmf"/>
  <Override PartName="/ppt/media/image3.wmf" ContentType="image/x-wmf"/>
  <Override PartName="/ppt/media/image21.png" ContentType="image/png"/>
  <Override PartName="/ppt/media/image19.png" ContentType="image/png"/>
  <Override PartName="/ppt/media/image18.wmf" ContentType="image/x-wmf"/>
  <Override PartName="/ppt/media/image17.wmf" ContentType="image/x-wmf"/>
  <Override PartName="/ppt/media/image16.wmf" ContentType="image/x-wmf"/>
  <Override PartName="/ppt/media/image24.wmf" ContentType="image/x-wmf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880" y="1469880"/>
            <a:ext cx="892800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880" y="3404880"/>
            <a:ext cx="892800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8880" y="4507920"/>
            <a:ext cx="892800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88880" y="1469880"/>
            <a:ext cx="892800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88880" y="3404880"/>
            <a:ext cx="435672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63760" y="3404880"/>
            <a:ext cx="435672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88880" y="4507920"/>
            <a:ext cx="435672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63760" y="4507920"/>
            <a:ext cx="435672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88880" y="1469880"/>
            <a:ext cx="892800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88880" y="3404880"/>
            <a:ext cx="287460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07480" y="3404880"/>
            <a:ext cx="287460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26440" y="3404880"/>
            <a:ext cx="287460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8880" y="4507920"/>
            <a:ext cx="287460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07480" y="4507920"/>
            <a:ext cx="287460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26440" y="4507920"/>
            <a:ext cx="287460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88880" y="1469880"/>
            <a:ext cx="892800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88880" y="3404880"/>
            <a:ext cx="8928000" cy="211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880" y="1469880"/>
            <a:ext cx="892800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880" y="3404880"/>
            <a:ext cx="8928000" cy="211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88880" y="1469880"/>
            <a:ext cx="892800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88880" y="3404880"/>
            <a:ext cx="4356720" cy="211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63760" y="3404880"/>
            <a:ext cx="4356720" cy="211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880" y="1469880"/>
            <a:ext cx="892800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88880" y="1469880"/>
            <a:ext cx="8928000" cy="6816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88880" y="1469880"/>
            <a:ext cx="892800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88880" y="3404880"/>
            <a:ext cx="435672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63760" y="3404880"/>
            <a:ext cx="4356720" cy="211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88880" y="4507920"/>
            <a:ext cx="435672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88880" y="1469880"/>
            <a:ext cx="892800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88880" y="3404880"/>
            <a:ext cx="8928000" cy="211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88880" y="1469880"/>
            <a:ext cx="892800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88880" y="3404880"/>
            <a:ext cx="4356720" cy="211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63760" y="3404880"/>
            <a:ext cx="435672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063760" y="4507920"/>
            <a:ext cx="435672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88880" y="1469880"/>
            <a:ext cx="892800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88880" y="3404880"/>
            <a:ext cx="435672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63760" y="3404880"/>
            <a:ext cx="435672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88880" y="4507920"/>
            <a:ext cx="892800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88880" y="1469880"/>
            <a:ext cx="892800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88880" y="3404880"/>
            <a:ext cx="892800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8880" y="4507920"/>
            <a:ext cx="892800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88880" y="1469880"/>
            <a:ext cx="892800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88880" y="3404880"/>
            <a:ext cx="435672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63760" y="3404880"/>
            <a:ext cx="435672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88880" y="4507920"/>
            <a:ext cx="435672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063760" y="4507920"/>
            <a:ext cx="435672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88880" y="1469880"/>
            <a:ext cx="892800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88880" y="3404880"/>
            <a:ext cx="287460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507480" y="3404880"/>
            <a:ext cx="287460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526440" y="3404880"/>
            <a:ext cx="287460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88880" y="4507920"/>
            <a:ext cx="287460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507480" y="4507920"/>
            <a:ext cx="287460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526440" y="4507920"/>
            <a:ext cx="287460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88880" y="1469880"/>
            <a:ext cx="892800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88880" y="3404880"/>
            <a:ext cx="8928000" cy="211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88880" y="1469880"/>
            <a:ext cx="892800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88880" y="3404880"/>
            <a:ext cx="4356720" cy="211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63760" y="3404880"/>
            <a:ext cx="4356720" cy="211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88880" y="1469880"/>
            <a:ext cx="892800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88880" y="1469880"/>
            <a:ext cx="8928000" cy="6816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88880" y="1469880"/>
            <a:ext cx="892800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88880" y="3404880"/>
            <a:ext cx="435672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63760" y="3404880"/>
            <a:ext cx="4356720" cy="211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88880" y="4507920"/>
            <a:ext cx="435672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88880" y="1469880"/>
            <a:ext cx="892800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88880" y="3404880"/>
            <a:ext cx="4356720" cy="211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63760" y="3404880"/>
            <a:ext cx="435672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63760" y="4507920"/>
            <a:ext cx="435672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880" y="1469880"/>
            <a:ext cx="892800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88880" y="3404880"/>
            <a:ext cx="435672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63760" y="3404880"/>
            <a:ext cx="435672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88880" y="4507920"/>
            <a:ext cx="892800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599840"/>
            <a:ext cx="891540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4000"/>
          </a:bodyPr>
          <a:p>
            <a:pPr marL="11664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16640" indent="-116640" algn="ctr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6640" indent="-116640" algn="ctr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16640" indent="-116640" algn="ctr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16640" indent="-116640" algn="ctr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16640" indent="-116640" algn="ctr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16640" indent="-116640" algn="ctr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512040"/>
            <a:ext cx="3657600" cy="360360"/>
          </a:xfrm>
          <a:prstGeom prst="rect">
            <a:avLst/>
          </a:prstGeom>
          <a:gradFill rotWithShape="0">
            <a:gsLst>
              <a:gs pos="0">
                <a:srgbClr val="00003c"/>
              </a:gs>
              <a:gs pos="100000">
                <a:srgbClr val="00001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IPE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Instituto Peruano de Economí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657600" y="6510240"/>
            <a:ext cx="6248520" cy="360360"/>
          </a:xfrm>
          <a:prstGeom prst="rect">
            <a:avLst/>
          </a:prstGeom>
          <a:gradFill rotWithShape="0">
            <a:gsLst>
              <a:gs pos="0">
                <a:srgbClr val="d20000"/>
              </a:gs>
              <a:gs pos="100000">
                <a:srgbClr val="3b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700" spc="-1" strike="noStrike">
                <a:solidFill>
                  <a:srgbClr val="ffffff"/>
                </a:solidFill>
                <a:latin typeface="Arial Narrow"/>
              </a:rPr>
              <a:t>Inversiones en el marco de los tratados de integración al mund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9396360" y="6551640"/>
            <a:ext cx="5605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CD836-ED51-48F3-B542-8A6DC6C00695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88880" y="1484280"/>
            <a:ext cx="8928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0"/>
            </a:gs>
            <a:gs pos="100000">
              <a:srgbClr val="00002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880" y="1469880"/>
            <a:ext cx="892800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88880" y="2997360"/>
            <a:ext cx="8928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715000" y="5589720"/>
            <a:ext cx="3506760" cy="723600"/>
          </a:xfrm>
          <a:prstGeom prst="rect">
            <a:avLst/>
          </a:prstGeom>
          <a:noFill/>
          <a:ln w="0">
            <a:noFill/>
          </a:ln>
          <a:effectLst>
            <a:outerShdw dist="81185" dir="2321969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0000"/>
                </a:solidFill>
                <a:latin typeface="Times New Roman"/>
              </a:rPr>
              <a:t>IPE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Instituto Peruano de Economí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689440" y="6224760"/>
            <a:ext cx="358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www.ipe.org.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0"/>
            </a:gs>
            <a:gs pos="100000">
              <a:srgbClr val="00002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80880" y="1007640"/>
            <a:ext cx="9144000" cy="1887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800" spc="-1" strike="noStrike">
                <a:solidFill>
                  <a:srgbClr val="ffffff"/>
                </a:solidFill>
                <a:latin typeface="Arial"/>
              </a:rPr>
              <a:t>Inversiones en el marco de los tratados de integración al mundo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355320" y="3276360"/>
            <a:ext cx="9219960" cy="2057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300" spc="-1" strike="noStrike">
                <a:solidFill>
                  <a:srgbClr val="ffffff"/>
                </a:solidFill>
                <a:latin typeface="Arial"/>
              </a:rPr>
              <a:t>Sociedad de Comercio Exterior del Perú – COMEXPERU</a:t>
            </a:r>
            <a:endParaRPr b="1" lang="en-US" sz="23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Foro: Inversion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Jueves, 22 de Julio de 2004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ll dir="l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99800" y="274680"/>
            <a:ext cx="970596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Times New Roman"/>
              </a:rPr>
              <a:t>Mayores desventajas competitivas: instituciones, ICT, laboral, distribución internacional, educación e…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00280" y="1590840"/>
            <a:ext cx="8305560" cy="10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236000"/>
                <a:tab algn="l" pos="752796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Índice de Competitividad para el Crecimiento (ICC)</a:t>
            </a:r>
            <a:r>
              <a:rPr b="1" lang="es-ES" sz="16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Rank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6000"/>
                <a:tab algn="l" pos="752796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 u="sng">
                <a:solidFill>
                  <a:srgbClr val="000000"/>
                </a:solidFill>
                <a:uFillTx/>
                <a:latin typeface="Arial"/>
              </a:rPr>
              <a:t>Ambiente macroeconómic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26208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7236000"/>
                <a:tab algn="l" pos="752796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Confianza del público en los políticos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8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262080">
              <a:lnSpc>
                <a:spcPct val="95000"/>
              </a:lnSpc>
              <a:tabLst>
                <a:tab algn="l" pos="0"/>
                <a:tab algn="l" pos="7236000"/>
                <a:tab algn="l" pos="752796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 u="sng">
                <a:solidFill>
                  <a:srgbClr val="000000"/>
                </a:solidFill>
                <a:uFillTx/>
                <a:latin typeface="Arial"/>
              </a:rPr>
              <a:t>Instituciones públic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26208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7236000"/>
                <a:tab algn="l" pos="752796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Independencia judicial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9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262080">
              <a:lnSpc>
                <a:spcPct val="95000"/>
              </a:lnSpc>
              <a:tabLst>
                <a:tab algn="l" pos="0"/>
                <a:tab algn="l" pos="7236000"/>
                <a:tab algn="l" pos="752796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 u="sng">
                <a:solidFill>
                  <a:srgbClr val="000000"/>
                </a:solidFill>
                <a:uFillTx/>
                <a:latin typeface="Arial"/>
              </a:rPr>
              <a:t>Tecnologí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26208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7236000"/>
                <a:tab algn="l" pos="752796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Colaboración universidad-empresa en investigación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8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26208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7236000"/>
                <a:tab algn="l" pos="752796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Gasto de las compañías en I&amp;D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8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26208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7236000"/>
                <a:tab algn="l" pos="752796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Priorización del gobierno de ICT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8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26208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7236000"/>
                <a:tab algn="l" pos="752796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Éxito del gobierno en la promoción de ICT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8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6000"/>
                <a:tab algn="l" pos="752796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Índice de Competitividad Empresarial (ICE)</a:t>
            </a:r>
            <a:r>
              <a:rPr b="1" lang="es-E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s-ES" sz="1600" spc="-1" strike="noStrike" u="sng">
                <a:solidFill>
                  <a:srgbClr val="000000"/>
                </a:solidFill>
                <a:uFillTx/>
                <a:latin typeface="Arial"/>
              </a:rPr>
              <a:t>Sofisticación de las operaciones y estrategia de la compañí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26208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7236000"/>
                <a:tab algn="l" pos="752796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Amplitud de la compensación con incentivos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8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26208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7236000"/>
                <a:tab algn="l" pos="752796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Control de la distribución internacional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8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26208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7236000"/>
                <a:tab algn="l" pos="752796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Gasto de las compañías en I&amp;D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262080">
              <a:lnSpc>
                <a:spcPct val="95000"/>
              </a:lnSpc>
              <a:tabLst>
                <a:tab algn="l" pos="0"/>
                <a:tab algn="l" pos="7236000"/>
                <a:tab algn="l" pos="752796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 u="sng">
                <a:solidFill>
                  <a:srgbClr val="000000"/>
                </a:solidFill>
                <a:uFillTx/>
                <a:latin typeface="Arial"/>
              </a:rPr>
              <a:t>Calidad del ambiente de negocios nacio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26208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7236000"/>
                <a:tab algn="l" pos="752796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Calidad de la educación en matemáticas y ciencias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8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26208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7236000"/>
                <a:tab algn="l" pos="752796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Calidad de la infraestructura de transporte aéreo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8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26208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7236000"/>
                <a:tab algn="l" pos="752796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Independencia judicial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8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27040" y="6083280"/>
            <a:ext cx="8732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65280" indent="-665280">
              <a:tabLst>
                <a:tab algn="l" pos="0"/>
                <a:tab algn="l" pos="665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Fuentes: World Economic Forum (Global Competitiveness Report 2003-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65280" indent="-665280">
              <a:tabLst>
                <a:tab algn="l" pos="0"/>
                <a:tab algn="l" pos="665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Universo 102 países, se tomó el cuartil inferior / </a:t>
            </a:r>
            <a:r>
              <a:rPr b="0" lang="es-E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Universo 95 países, se tomó el cuartil inferi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29840" y="274680"/>
            <a:ext cx="900108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…</a:t>
            </a:r>
            <a:r>
              <a:rPr b="0" lang="es-PE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infraestructura básica, una que el IPE contribuyó a documentar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27040" y="6251400"/>
            <a:ext cx="873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65280" indent="-665280">
              <a:tabLst>
                <a:tab algn="l" pos="0"/>
                <a:tab algn="l" pos="665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ente: Instituto Peruano de Economí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593720" y="1560600"/>
            <a:ext cx="66978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recha total de inversión en infraestructura bás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927000" y="1878120"/>
            <a:ext cx="8043840" cy="430848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88520" y="274680"/>
            <a:ext cx="892188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...los políticos y algunos empresaurios se siguen encargando de empeor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27040" y="6093000"/>
            <a:ext cx="8732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65280" indent="-665280">
              <a:tabLst>
                <a:tab algn="l" pos="0"/>
                <a:tab algn="l" pos="665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entes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PAL, Ministerio de Obras Pública (Chile), Ministerio de Transportes y Comunicaciones (Perú) e Instituto Peruano de Economí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1606680"/>
            <a:ext cx="43988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versión en transporte en Perú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en millones de US$ constant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952880" y="1606680"/>
            <a:ext cx="44197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versión en transporte en Ch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en millones de US$ constant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5029200" y="2044800"/>
            <a:ext cx="4419720" cy="404820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380880" y="2044800"/>
            <a:ext cx="4394160" cy="404820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72880" y="260280"/>
            <a:ext cx="928872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100" spc="-1" strike="noStrike">
                <a:solidFill>
                  <a:srgbClr val="000000"/>
                </a:solidFill>
                <a:latin typeface="Arial"/>
                <a:ea typeface="Times New Roman"/>
              </a:rPr>
              <a:t>¿No les parece mal seguir promoviendo la informalidad, que ya es la quinta mayor del mundo?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57200" y="1523880"/>
            <a:ext cx="449568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Tiempo necesario para abrir un negoc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(en dí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" y="6253200"/>
            <a:ext cx="899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Fuentes: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anco Mundial (Doing Business Database, 2004)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e I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029200" y="1523880"/>
            <a:ext cx="449568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Flexibilidad para despedir trabajado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(en índice, 100 = mayor rigidez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428760" y="2085840"/>
            <a:ext cx="4495680" cy="411804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5010120" y="2082960"/>
            <a:ext cx="4495680" cy="411768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000000"/>
                </a:solidFill>
                <a:latin typeface="Arial"/>
              </a:rPr>
              <a:t>¿No les parece una pésima idea seguir maltratando a los pocos que investigan alg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28480" y="6095880"/>
            <a:ext cx="881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65280" indent="-665280">
              <a:tabLst>
                <a:tab algn="l" pos="0"/>
                <a:tab algn="l" pos="665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Fuentes: Red Iberoamericana de Indicadores de Ciencia y Tecnología (2002) e I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65280" indent="-665280">
              <a:tabLst>
                <a:tab algn="l" pos="0"/>
                <a:tab algn="l" pos="665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Brasil, Costa Rica y Honduras: 2000; Portugal, Chile, Panamá, México y Trinidad &amp; Tobago: 200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04920" y="1574640"/>
            <a:ext cx="4647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Inversión en investigación y desarrollo, 2002</a:t>
            </a:r>
            <a:r>
              <a:rPr b="1" lang="es-MX" sz="16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(en porcentaje del PB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52880" y="1554120"/>
            <a:ext cx="4572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Perú: inversión en investigación y desarrol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(en porcentaje del PB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304920" y="2133720"/>
            <a:ext cx="4419360" cy="404784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4952880" y="1981080"/>
            <a:ext cx="4572000" cy="420228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74840" y="274680"/>
            <a:ext cx="892152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NAFTA y la inversión en México: los acuerdos comerciales no son una bala de pl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841400" y="1523880"/>
            <a:ext cx="6193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Flujo neto de inversión extranjera direc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en porcentaje del PBI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27040" y="6095880"/>
            <a:ext cx="8732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62040" indent="-662040">
              <a:tabLst>
                <a:tab algn="l" pos="0"/>
                <a:tab algn="l" pos="662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Fuentes: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anco Mundial (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ry, Lederman, Maloney y Servén, Lessons form NAFTA for Latin American and Caribbean Countries, 2003) e I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1295280" y="2016000"/>
            <a:ext cx="7315200" cy="3941640"/>
            <a:chOff x="1295280" y="2016000"/>
            <a:chExt cx="7315200" cy="3941640"/>
          </a:xfrm>
        </p:grpSpPr>
        <p:grpSp>
          <p:nvGrpSpPr>
            <p:cNvPr id="170" name=""/>
            <p:cNvGrpSpPr/>
            <p:nvPr/>
          </p:nvGrpSpPr>
          <p:grpSpPr>
            <a:xfrm>
              <a:off x="1295280" y="2016000"/>
              <a:ext cx="7315200" cy="3941640"/>
              <a:chOff x="1295280" y="2016000"/>
              <a:chExt cx="7315200" cy="3941640"/>
            </a:xfrm>
          </p:grpSpPr>
          <p:pic>
            <p:nvPicPr>
              <p:cNvPr id="171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295280" y="2045880"/>
                <a:ext cx="7315200" cy="3911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2"/>
              <a:srcRect l="599" t="0" r="0" b="541"/>
              <a:stretch/>
            </p:blipFill>
            <p:spPr>
              <a:xfrm>
                <a:off x="1295280" y="2027160"/>
                <a:ext cx="5791320" cy="271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1569960" y="2016000"/>
                <a:ext cx="104760" cy="11592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74" name="" descr=""/>
            <p:cNvPicPr/>
            <p:nvPr/>
          </p:nvPicPr>
          <p:blipFill>
            <a:blip r:embed="rId4"/>
            <a:stretch/>
          </p:blipFill>
          <p:spPr>
            <a:xfrm>
              <a:off x="1752480" y="2263680"/>
              <a:ext cx="4876920" cy="185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5" name="" descr=""/>
            <p:cNvPicPr/>
            <p:nvPr/>
          </p:nvPicPr>
          <p:blipFill>
            <a:blip r:embed="rId5"/>
            <a:stretch/>
          </p:blipFill>
          <p:spPr>
            <a:xfrm>
              <a:off x="6858000" y="2070000"/>
              <a:ext cx="1670040" cy="2188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strips dir="l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74840" y="274680"/>
            <a:ext cx="892152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Sigue siendo imprescindible tener las cosas claras y asentar el desarrollo en instituc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27040" y="6249960"/>
            <a:ext cx="873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65280" indent="-665280">
              <a:tabLst>
                <a:tab algn="l" pos="0"/>
                <a:tab algn="l" pos="665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Fuentes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nco Central de Chile, Larroulet (Libre comercio, desarrollo y TLC con EEUU, Marzo 2004) e I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841400" y="1523880"/>
            <a:ext cx="6193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Chile: stock de inversión extranjera direc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(en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miles de millones de US$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1293840" y="1928880"/>
            <a:ext cx="7316640" cy="433692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nuestro país le conviene integrarse al mundo. De eso, sólo dudan mercas y otros despistad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01160" y="1600200"/>
            <a:ext cx="965196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192960" indent="-19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anto la evidencia empírica como desarrollos teóricos, recientes o no, sugieren que a economías pequeñas y pobres, como la nuestra, les conviene integrarse al mundo. A países que, como el nuestro, carecen de instituciones, la integración les conviene aún má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2960" indent="-19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os TLC (EE.UU., Tailandia, ¿Europa, China e India?) son sólo vehículos para la integración al mundo. El ALCA (light) sería mejor para nosotros, la OMC mejor aún. No están, sin embargo, disponibles. Nos conviene aprovechar la coyuntura: desviación de comercio, elecciones y TPA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2960" indent="-19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stamos sentados en la mesa porque producimos hoja de coca, la región andina es aún menos estable políticamente que nuestro país y tenemos gas. Además, porque EE.UU. quiere aislar a Brasil y enfrentar a otros bloques económicos, China y la India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2960" indent="-19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rincipales beneficios potenciales asociados al TLC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8800" indent="-186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e cierran algunas reglas con candado y se proveen incentivos para que se adopten reform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8800" indent="-186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cceso al mercado más grande del mundo: principal socio (particularmente para no tradicionales), 180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2960" indent="-19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rincipales riesgos potenciales asociados al TLC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8800" indent="-186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gro tradicional: aún no tenemos mecanismos compensatorios, no adoptamos reformas y tenemos instituciones débiles (INRENA, INIA, PRONAMACHS, ¿SENASA? y gremio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8800" indent="-186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ercantilistas y sus juegos de suma ce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u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0"/>
            </a:gs>
            <a:gs pos="100000">
              <a:srgbClr val="00002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342720" y="1752480"/>
            <a:ext cx="921996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"/>
              </a:rPr>
              <a:t>IPEopinió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"/>
              </a:rPr>
              <a:t>IPEopinion@ipe.org.p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ll dir="l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4915080" y="4788000"/>
            <a:ext cx="761760" cy="533160"/>
          </a:xfrm>
          <a:prstGeom prst="ellipse">
            <a:avLst/>
          </a:prstGeom>
          <a:solidFill>
            <a:srgbClr val="faff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07960" y="3479760"/>
            <a:ext cx="762120" cy="533520"/>
          </a:xfrm>
          <a:prstGeom prst="ellipse">
            <a:avLst/>
          </a:prstGeom>
          <a:solidFill>
            <a:srgbClr val="faff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-360" y="274320"/>
            <a:ext cx="9906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000" spc="-1" strike="noStrike">
                <a:solidFill>
                  <a:srgbClr val="000000"/>
                </a:solidFill>
                <a:latin typeface="Arial"/>
              </a:rPr>
              <a:t>Nuestra economía representa el 0.2-0.3% de la mundial. ¿Con quién hacemos negocios? ¿A quién pateamos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625320" y="2409840"/>
            <a:ext cx="8670960" cy="39481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528480" y="6278400"/>
            <a:ext cx="881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65280" indent="-665280">
              <a:tabLst>
                <a:tab algn="l" pos="0"/>
                <a:tab algn="l" pos="665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Fuentes: FMI (World Economic Outlook, abril 2004) e I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95360" y="1523880"/>
            <a:ext cx="89154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Participación de algunas economías en el PBI mundial, 200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(en porcentajes del tota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15960" y="2100240"/>
            <a:ext cx="4108320" cy="48996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300" spc="-1" strike="noStrike">
                <a:solidFill>
                  <a:srgbClr val="000000"/>
                </a:solidFill>
                <a:latin typeface="Verdana"/>
              </a:rPr>
              <a:t>Participación basada en el valor del PBI en dólares corrient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100240"/>
            <a:ext cx="4132440" cy="48996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300" spc="-1" strike="noStrike">
                <a:solidFill>
                  <a:srgbClr val="000000"/>
                </a:solidFill>
                <a:latin typeface="Verdana"/>
              </a:rPr>
              <a:t>Participación basada en el valor del PBI usando la paridad del poder adquisitiv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72880" y="274320"/>
            <a:ext cx="9290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000000"/>
                </a:solidFill>
                <a:latin typeface="Arial"/>
              </a:rPr>
              <a:t>Usualmente decimos que hemos perdido sólo tres décadas: otra muestra de nuestro aislami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28480" y="6095880"/>
            <a:ext cx="881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65280" indent="-665280">
              <a:tabLst>
                <a:tab algn="l" pos="0"/>
                <a:tab algn="l" pos="665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Fuentes: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BCRP; Alan Heston, Robert Summers y Bettina Aten (Versión 6.1 Penn World Table, Center for International Comparisons at the University of Pennsylvania - CICUP, Octubre 2002) e I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95360" y="1574640"/>
            <a:ext cx="4305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Perú: PBI per cápita, 1950-200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(en miles de Nuevos Soles de 1994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105520" y="1574640"/>
            <a:ext cx="4305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PBI per cápita algunos países, 1950-2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(en miles de US$ de 1996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043600" y="2025720"/>
            <a:ext cx="4495680" cy="411804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4360" y="2023920"/>
            <a:ext cx="4495680" cy="411804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60" y="274320"/>
            <a:ext cx="9906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000000"/>
                </a:solidFill>
                <a:latin typeface="Arial"/>
              </a:rPr>
              <a:t>Nuestra desintegración del mundo y la integración de otros parecidos: una causa del retraso (relativ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28480" y="6095880"/>
            <a:ext cx="881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65280" indent="-665280">
              <a:tabLst>
                <a:tab algn="l" pos="0"/>
                <a:tab algn="l" pos="665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Fuentes: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FMI; BCRP; Alan Heston, Robert Summers y Bettina Aten (Versión 6.1 Penn World Table, Center for International Comparisons at the University of Pennsylvania - CICUP, Octubre 2002); e I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95360" y="1574640"/>
            <a:ext cx="4457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Grado de apertura comercial, 20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(comercio exterior en porcentaje del PB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876920" y="1574640"/>
            <a:ext cx="4724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Grado de apertura algunos países, 1950-2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(comercio en porcentaje del PBI, en US$ de 1996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5029200" y="2057400"/>
            <a:ext cx="4505400" cy="41259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533520" y="2203560"/>
            <a:ext cx="4343400" cy="397800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000000"/>
                </a:solidFill>
                <a:latin typeface="Arial"/>
              </a:rPr>
              <a:t>Algunas leyendas urbanas (y rurales) acerca del comercio: EE.UU., México y los subsidios;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95000" y="1562040"/>
            <a:ext cx="895356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oyo gubernamental estimado al productor agrícol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en porcentaje del valor bruto de la producción agrícola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28480" y="6265800"/>
            <a:ext cx="881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65280" indent="-665280">
              <a:tabLst>
                <a:tab algn="l" pos="0"/>
                <a:tab algn="l" pos="665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Fuentes: OECD (Agricultural policies 2004 at a glance) e I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736560" y="2108160"/>
            <a:ext cx="8443800" cy="4220640"/>
            <a:chOff x="736560" y="2108160"/>
            <a:chExt cx="8443800" cy="4220640"/>
          </a:xfrm>
        </p:grpSpPr>
        <p:pic>
          <p:nvPicPr>
            <p:cNvPr id="109" name="" descr=""/>
            <p:cNvPicPr/>
            <p:nvPr/>
          </p:nvPicPr>
          <p:blipFill>
            <a:blip r:embed="rId1"/>
            <a:srcRect l="2178" t="9467" r="1089" b="18649"/>
            <a:stretch/>
          </p:blipFill>
          <p:spPr>
            <a:xfrm>
              <a:off x="1141200" y="2122200"/>
              <a:ext cx="8039160" cy="343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"/>
            <p:cNvSpPr/>
            <p:nvPr/>
          </p:nvSpPr>
          <p:spPr>
            <a:xfrm rot="16200000">
              <a:off x="4546440" y="2158560"/>
              <a:ext cx="927000" cy="7413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426"/>
                </a:spcBef>
                <a:spcAft>
                  <a:spcPts val="13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. Zeland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spcBef>
                  <a:spcPts val="1426"/>
                </a:spcBef>
                <a:spcAft>
                  <a:spcPts val="13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ustrali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spcBef>
                  <a:spcPts val="1426"/>
                </a:spcBef>
                <a:spcAft>
                  <a:spcPts val="13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oloni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spcBef>
                  <a:spcPts val="1426"/>
                </a:spcBef>
                <a:spcAft>
                  <a:spcPts val="13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urquí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spcBef>
                  <a:spcPts val="1426"/>
                </a:spcBef>
                <a:spcAft>
                  <a:spcPts val="13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nadá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spcBef>
                  <a:spcPts val="1426"/>
                </a:spcBef>
                <a:spcAft>
                  <a:spcPts val="13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EU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spcBef>
                  <a:spcPts val="1426"/>
                </a:spcBef>
                <a:spcAft>
                  <a:spcPts val="13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éxic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spcBef>
                  <a:spcPts val="1426"/>
                </a:spcBef>
                <a:spcAft>
                  <a:spcPts val="13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. Chec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spcBef>
                  <a:spcPts val="1426"/>
                </a:spcBef>
                <a:spcAft>
                  <a:spcPts val="13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U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spcBef>
                  <a:spcPts val="1426"/>
                </a:spcBef>
                <a:spcAft>
                  <a:spcPts val="13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Japó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spcBef>
                  <a:spcPts val="1426"/>
                </a:spcBef>
                <a:spcAft>
                  <a:spcPts val="13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re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spcBef>
                  <a:spcPts val="1426"/>
                </a:spcBef>
                <a:spcAft>
                  <a:spcPts val="13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slandi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spcBef>
                  <a:spcPts val="1426"/>
                </a:spcBef>
                <a:spcAft>
                  <a:spcPts val="13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rueg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spcBef>
                  <a:spcPts val="1426"/>
                </a:spcBef>
                <a:spcAft>
                  <a:spcPts val="13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uiz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36560" y="4305240"/>
              <a:ext cx="2057400" cy="290880"/>
            </a:xfrm>
            <a:prstGeom prst="wedgeRectCallout">
              <a:avLst>
                <a:gd name="adj1" fmla="val -22078"/>
                <a:gd name="adj2" fmla="val 102532"/>
              </a:avLst>
            </a:prstGeom>
            <a:solidFill>
              <a:srgbClr val="cddcdf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54000" bIns="540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US$ miles de millones, 200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193760" y="2108160"/>
              <a:ext cx="426708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strips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7162920" y="556272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s-PE" sz="3200" spc="-1" strike="noStrike">
                <a:solidFill>
                  <a:srgbClr val="000000"/>
                </a:solidFill>
                <a:latin typeface="Arial"/>
              </a:rPr>
              <a:t>Chomsky, sus pares nacionales, las falacias de la globalización y la inequidad;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95000" y="1549440"/>
            <a:ext cx="8877240" cy="67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ersonas viviendo con menos de un dólar por dí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según la paridad del poder adquisitivo, a precios de 1985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719440" y="219564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566640" y="2220840"/>
            <a:ext cx="8805960" cy="3875040"/>
            <a:chOff x="566640" y="2220840"/>
            <a:chExt cx="8805960" cy="3875040"/>
          </a:xfrm>
        </p:grpSpPr>
        <p:pic>
          <p:nvPicPr>
            <p:cNvPr id="118" name="BlobServer" descr=""/>
            <p:cNvPicPr/>
            <p:nvPr/>
          </p:nvPicPr>
          <p:blipFill>
            <a:blip r:embed="rId1"/>
            <a:srcRect l="0" t="16475" r="0" b="3823"/>
            <a:stretch/>
          </p:blipFill>
          <p:spPr>
            <a:xfrm>
              <a:off x="566640" y="2220840"/>
              <a:ext cx="8805960" cy="387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"/>
            <p:cNvSpPr/>
            <p:nvPr/>
          </p:nvSpPr>
          <p:spPr>
            <a:xfrm>
              <a:off x="6654960" y="2311560"/>
              <a:ext cx="2590560" cy="243720"/>
            </a:xfrm>
            <a:prstGeom prst="rect">
              <a:avLst/>
            </a:prstGeom>
            <a:solidFill>
              <a:srgbClr val="ef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Narrow"/>
                </a:rPr>
                <a:t>En % de la población mundi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35040" y="2324160"/>
              <a:ext cx="1447920" cy="243720"/>
            </a:xfrm>
            <a:prstGeom prst="rect">
              <a:avLst/>
            </a:prstGeom>
            <a:solidFill>
              <a:srgbClr val="ef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Narrow"/>
                </a:rPr>
                <a:t>Miles de millon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934320" y="4762440"/>
              <a:ext cx="1295280" cy="24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articipació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099200" y="3492360"/>
              <a:ext cx="1600200" cy="24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iles de millon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" name=""/>
          <p:cNvSpPr/>
          <p:nvPr/>
        </p:nvSpPr>
        <p:spPr>
          <a:xfrm>
            <a:off x="528480" y="6265800"/>
            <a:ext cx="881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65280" indent="-665280">
              <a:tabLst>
                <a:tab algn="l" pos="0"/>
                <a:tab algn="l" pos="665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Fuentes: American Economic Review (Bourguignon y Morrison, 2002), Banco Mundial, Bhalla e I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 algunas opiniones coincidentes bastante mejor fundamentad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92203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95120" indent="-195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as economías abiertas crecen más rápido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5120" indent="-195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s países ricos son más proteccionistas que los países pobres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5120" indent="-195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l libre comercio aumenta la pobreza en el Tercer Mundo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5120" indent="-195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l proteccionismo agrícola en los países ricos aumenta la pobreza global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5120" indent="-195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s países pobres no deberían abrir sus mercados si es que los países ricos mantienen sus barreras al comercio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5120" indent="-195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o hay ‘Desarrollo’ en la Agenda de Desarrollo de Doha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5120" indent="-195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a Organización Mundial de Comercio perjudica a los países pobres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5120" indent="-195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l libre comercio es malo para el medio ambiente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28480" y="6265800"/>
            <a:ext cx="881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65280" indent="-665280">
              <a:tabLst>
                <a:tab algn="l" pos="0"/>
                <a:tab algn="l" pos="665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Fuentes: Panagariya, Arvind (“Think again: international trade”, Foreign Policy, diciembre 2003) e I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72880" y="274680"/>
            <a:ext cx="936000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El retroceso de la inversión también es más marcado de lo que sugieren las comparaciones históric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27040" y="6058080"/>
            <a:ext cx="873288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65280" indent="-665280">
              <a:tabLst>
                <a:tab algn="l" pos="0"/>
                <a:tab algn="l" pos="665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Fuentes: BCRP, UNCTAD e I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65280" indent="-665280">
              <a:tabLst>
                <a:tab algn="l" pos="0"/>
                <a:tab algn="l" pos="665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Índice = (IED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/IED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)/(PBI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/PBI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), p = país, g = glob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95280" y="1606680"/>
            <a:ext cx="45370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versión privada e 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en porcentaje del PB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025960" y="1606680"/>
            <a:ext cx="4606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Índice de desempeño de la IED</a:t>
            </a:r>
            <a:r>
              <a:rPr b="1" lang="es-MX" sz="16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ubicación en el ranking, orden inverso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380880" y="2043000"/>
            <a:ext cx="4419720" cy="404820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5029200" y="2057400"/>
            <a:ext cx="4419720" cy="404640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31640" y="260280"/>
            <a:ext cx="900144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La competitividad y la equivocada actitud de algunos “empresario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1549440"/>
            <a:ext cx="4495680" cy="67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Evolución del ICE</a:t>
            </a:r>
            <a:r>
              <a:rPr b="1" lang="es-MX" sz="16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 y sus componen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(puesto en el rankin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57200" y="6070680"/>
            <a:ext cx="8991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Fuentes: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World Economic Forum (Global Competitiveness Report 2003-2004)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e I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Índice de Competitividad Empresarial / </a:t>
            </a:r>
            <a:r>
              <a:rPr b="0" lang="es-MX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Índice de Competitividad para el Crecimien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rot="16200000">
            <a:off x="-451440" y="356508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Mayor competitivid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635040" y="295884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029200" y="1549440"/>
            <a:ext cx="4495680" cy="67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Evolución del ICC</a:t>
            </a:r>
            <a:r>
              <a:rPr b="1" lang="es-MX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 y sus componen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(puesto en el rankin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596880" y="2003400"/>
            <a:ext cx="4343400" cy="39783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5016600" y="2003400"/>
            <a:ext cx="4352760" cy="398628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9T22:07:03Z</dcterms:created>
  <dc:creator>Pavel Hernández B.</dc:creator>
  <dc:description/>
  <dc:language>en-US</dc:language>
  <cp:lastModifiedBy>Pavel Hernández Bracamonte</cp:lastModifiedBy>
  <dcterms:modified xsi:type="dcterms:W3CDTF">2004-07-21T23:26:56Z</dcterms:modified>
  <cp:revision>186</cp:revision>
  <dc:subject/>
  <dc:title>Diapositiv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1773177</vt:r8>
  </property>
  <property fmtid="{D5CDD505-2E9C-101B-9397-08002B2CF9AE}" pid="3" name="_AuthorEmail">
    <vt:lpwstr>jore@comexperu.org.pe</vt:lpwstr>
  </property>
  <property fmtid="{D5CDD505-2E9C-101B-9397-08002B2CF9AE}" pid="4" name="_AuthorEmailDisplayName">
    <vt:lpwstr>Juan Carlos Ore</vt:lpwstr>
  </property>
  <property fmtid="{D5CDD505-2E9C-101B-9397-08002B2CF9AE}" pid="5" name="_EmailSubject">
    <vt:lpwstr/>
  </property>
</Properties>
</file>